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5B2F-FDB0-4ECC-A55B-2F87ECD0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3648-A340-4450-AF0F-529EDD2F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FCD-3717-4D9A-9375-92B1EB90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FCD-9E84-4973-97D5-5E5EFDD7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687E-B48C-46EF-B36B-8E05205F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6E31-D3EF-45E3-9F8A-AFA3C725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60E-EA83-49EF-89B3-C6C94B38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035-AB35-46E3-B2DA-5A72081E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750-6590-401F-8164-EB714914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1330-9B7F-4505-A644-F4384AD9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578-657D-4CB8-8E97-59395283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8B6-58AB-4B40-BC8D-1EB89289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C686-2508-41A5-B489-8E9E927F9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mailto:valeria@ualberta.ca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514600" cy="914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447920"/>
            <a:ext cx="5486400" cy="16002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íHola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Amig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Hands On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048120"/>
            <a:ext cx="4876920" cy="3808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ssion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9625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26708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g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495680"/>
            <a:ext cx="373356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7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7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ts mini-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7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ource Video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7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elements of 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7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7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7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y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13085" t="21093" r="52335" b="8594"/>
          <a:stretch/>
        </p:blipFill>
        <p:spPr>
          <a:xfrm>
            <a:off x="5105520" y="3505320"/>
            <a:ext cx="93960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26792" t="27343" r="26792" b="21093"/>
          <a:stretch/>
        </p:blipFill>
        <p:spPr>
          <a:xfrm>
            <a:off x="5105520" y="0"/>
            <a:ext cx="1752480" cy="1552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4844" t="14364" r="1763" b="20462"/>
          <a:stretch/>
        </p:blipFill>
        <p:spPr>
          <a:xfrm>
            <a:off x="2438280" y="0"/>
            <a:ext cx="2743200" cy="152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rcRect l="7632" t="24220" r="9501" b="10938"/>
          <a:stretch/>
        </p:blipFill>
        <p:spPr>
          <a:xfrm>
            <a:off x="0" y="0"/>
            <a:ext cx="2438280" cy="1522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228600" y="1371600"/>
            <a:ext cx="7238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8394840"/>
            <a:ext cx="3886200" cy="609480"/>
          </a:xfrm>
          <a:prstGeom prst="roundRect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eria Pallad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hlinkClick r:id="rId5"/>
              </a:rPr>
              <a:t>valeria@ualberta.c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8240" y="7315200"/>
            <a:ext cx="1460520" cy="1676160"/>
            <a:chOff x="228240" y="7315200"/>
            <a:chExt cx="1460520" cy="1676160"/>
          </a:xfrm>
        </p:grpSpPr>
        <p:pic>
          <p:nvPicPr>
            <p:cNvPr id="54" name="" descr=""/>
            <p:cNvPicPr/>
            <p:nvPr/>
          </p:nvPicPr>
          <p:blipFill>
            <a:blip r:embed="rId6"/>
            <a:srcRect l="34426" t="32814" r="21341" b="10938"/>
            <a:stretch/>
          </p:blipFill>
          <p:spPr>
            <a:xfrm>
              <a:off x="296280" y="7444080"/>
              <a:ext cx="1316520" cy="148284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ffffff">
                  <a:alpha val="50000"/>
                </a:srgbClr>
              </a:outerShdw>
            </a:effectLst>
          </p:spPr>
        </p:pic>
        <p:sp>
          <p:nvSpPr>
            <p:cNvPr id="55" name=""/>
            <p:cNvSpPr/>
            <p:nvPr/>
          </p:nvSpPr>
          <p:spPr>
            <a:xfrm>
              <a:off x="237960" y="7315200"/>
              <a:ext cx="1450800" cy="19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7960" y="8798040"/>
              <a:ext cx="1450800" cy="19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795240" y="8034120"/>
              <a:ext cx="1611720" cy="1738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5400000">
              <a:off x="-490680" y="8055720"/>
              <a:ext cx="1611720" cy="1738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7"/>
          <a:srcRect l="27416" t="27343" r="47041" b="14065"/>
          <a:stretch/>
        </p:blipFill>
        <p:spPr>
          <a:xfrm>
            <a:off x="268200" y="1447920"/>
            <a:ext cx="874800" cy="1600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rcRect l="64176" t="27343" r="8412" b="14065"/>
          <a:stretch/>
        </p:blipFill>
        <p:spPr>
          <a:xfrm>
            <a:off x="5715000" y="1523880"/>
            <a:ext cx="849240" cy="1447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rcRect l="28040" t="28126" r="48289" b="14065"/>
          <a:stretch/>
        </p:blipFill>
        <p:spPr>
          <a:xfrm>
            <a:off x="2438280" y="3124080"/>
            <a:ext cx="743040" cy="1447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rcRect l="37355" t="19517" r="21400" b="9251"/>
          <a:stretch/>
        </p:blipFill>
        <p:spPr>
          <a:xfrm>
            <a:off x="685800" y="5486400"/>
            <a:ext cx="1106640" cy="1523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rcRect l="65424" t="16405" r="9036" b="21876"/>
          <a:stretch/>
        </p:blipFill>
        <p:spPr>
          <a:xfrm>
            <a:off x="2209680" y="7010280"/>
            <a:ext cx="870120" cy="1676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rcRect l="21806" t="16405" r="46420" b="21876"/>
          <a:stretch/>
        </p:blipFill>
        <p:spPr>
          <a:xfrm>
            <a:off x="5638680" y="7162920"/>
            <a:ext cx="935280" cy="1447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3"/>
          <a:srcRect l="33022" t="16405" r="30841" b="21093"/>
          <a:stretch/>
        </p:blipFill>
        <p:spPr>
          <a:xfrm>
            <a:off x="758880" y="2819520"/>
            <a:ext cx="9936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4"/>
          <a:srcRect l="33022" t="39064" r="32710" b="7811"/>
          <a:stretch/>
        </p:blipFill>
        <p:spPr>
          <a:xfrm>
            <a:off x="4191120" y="6934320"/>
            <a:ext cx="1047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7:10:11Z</dcterms:created>
  <dc:creator>Home</dc:creator>
  <dc:description/>
  <dc:language>en-US</dc:language>
  <cp:lastModifiedBy>Home</cp:lastModifiedBy>
  <dcterms:modified xsi:type="dcterms:W3CDTF">2010-02-06T18:38:44Z</dcterms:modified>
  <cp:revision>7</cp:revision>
  <dc:subject/>
  <dc:title>Slide 1</dc:title>
</cp:coreProperties>
</file>